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1582-EE26-4B4C-A184-5BF20E4CA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B8E-4900-49CA-B3A7-5E266867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D12-B17C-4036-9B17-C1F98790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053-5E69-4082-8552-CEA7B355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6B0-73D2-4FB0-AE05-22ADC888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072-6A15-4733-B8CA-DD24BCCE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A49-5155-46EB-98AE-D0D5D5D3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51B-5630-40E2-97F7-5BAF15D7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26B-B6D7-4062-A156-1EB8FFE6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735-99E9-4A4A-B6F6-0484589A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E4C9-C810-4DC3-BBDC-50A01D5D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C3D8-441D-4A01-8694-11C45CC9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21F-0D39-49ED-BB38-DA23A1F7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8568-8871-40A8-BC96-186988C06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859040" y="457200"/>
            <a:ext cx="542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3080" y="144792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477800" y="4724280"/>
            <a:ext cx="6188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1859040" y="380880"/>
            <a:ext cx="54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2"/>
              <p:cNvSpPr txBox="1"/>
              <p:nvPr/>
            </p:nvSpPr>
            <p:spPr>
              <a:xfrm>
                <a:off x="895320" y="1143000"/>
                <a:ext cx="7353360" cy="500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5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&gt;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028880" y="685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1905120" y="1709640"/>
                <a:ext cx="2057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 Box 4"/>
          <p:cNvSpPr/>
          <p:nvPr/>
        </p:nvSpPr>
        <p:spPr>
          <a:xfrm>
            <a:off x="0" y="3200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76320" y="4876920"/>
                <a:ext cx="89913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4876920" y="1405080"/>
                <a:ext cx="2484360" cy="20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400480" y="1522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152280" y="914400"/>
                <a:ext cx="2700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895480" y="914400"/>
                <a:ext cx="21081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5029200" y="990720"/>
                <a:ext cx="922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0" y="2514600"/>
                <a:ext cx="23702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2286000" y="2743200"/>
                <a:ext cx="19130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4191120" y="2743200"/>
                <a:ext cx="11239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9"/>
              <p:cNvSpPr txBox="1"/>
              <p:nvPr/>
            </p:nvSpPr>
            <p:spPr>
              <a:xfrm>
                <a:off x="0" y="4572000"/>
                <a:ext cx="243828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0"/>
              <p:cNvSpPr txBox="1"/>
              <p:nvPr/>
            </p:nvSpPr>
            <p:spPr>
              <a:xfrm>
                <a:off x="2362320" y="4572000"/>
                <a:ext cx="164916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" name="Rectangle 19"/>
          <p:cNvSpPr/>
          <p:nvPr/>
        </p:nvSpPr>
        <p:spPr>
          <a:xfrm>
            <a:off x="5029200" y="990720"/>
            <a:ext cx="939960" cy="1019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4114800" y="2743200"/>
            <a:ext cx="1344600" cy="102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2438280" y="4495680"/>
            <a:ext cx="1479600" cy="1316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0" y="609480"/>
                <a:ext cx="2354400" cy="24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362320" y="762120"/>
                <a:ext cx="1114200" cy="21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52280" y="2743200"/>
                <a:ext cx="1671840" cy="20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752480" y="2743200"/>
                <a:ext cx="216864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3962520" y="3276720"/>
                <a:ext cx="8665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7"/>
              <p:cNvSpPr txBox="1"/>
              <p:nvPr/>
            </p:nvSpPr>
            <p:spPr>
              <a:xfrm>
                <a:off x="0" y="4572000"/>
                <a:ext cx="1671480" cy="20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1523880" y="4724280"/>
                <a:ext cx="210348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9"/>
              <p:cNvSpPr txBox="1"/>
              <p:nvPr/>
            </p:nvSpPr>
            <p:spPr>
              <a:xfrm>
                <a:off x="3657600" y="4724280"/>
                <a:ext cx="1050840" cy="19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Rectangle 10"/>
          <p:cNvSpPr/>
          <p:nvPr/>
        </p:nvSpPr>
        <p:spPr>
          <a:xfrm>
            <a:off x="2362320" y="685800"/>
            <a:ext cx="1371600" cy="21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886200" y="3276720"/>
            <a:ext cx="1371600" cy="960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581280" y="4572000"/>
            <a:ext cx="1371600" cy="2057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1638360" y="1522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43828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3"/>
              <p:cNvSpPr txBox="1"/>
              <p:nvPr/>
            </p:nvSpPr>
            <p:spPr>
              <a:xfrm>
                <a:off x="228600" y="533520"/>
                <a:ext cx="1790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1981080" y="533520"/>
                <a:ext cx="19335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d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3886200" y="533520"/>
                <a:ext cx="828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152280" y="1143000"/>
                <a:ext cx="2719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2819520" y="1143000"/>
                <a:ext cx="2798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d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638680" y="1143000"/>
                <a:ext cx="1127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152280" y="2514600"/>
                <a:ext cx="1398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1523880" y="2514600"/>
                <a:ext cx="15336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2971800" y="2514600"/>
                <a:ext cx="1231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152280" y="3124080"/>
                <a:ext cx="14623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1523880" y="3200400"/>
                <a:ext cx="12668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14"/>
              <p:cNvSpPr txBox="1"/>
              <p:nvPr/>
            </p:nvSpPr>
            <p:spPr>
              <a:xfrm>
                <a:off x="2743200" y="3200400"/>
                <a:ext cx="8002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5"/>
              <p:cNvSpPr txBox="1"/>
              <p:nvPr/>
            </p:nvSpPr>
            <p:spPr>
              <a:xfrm>
                <a:off x="152280" y="1752480"/>
                <a:ext cx="1828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6"/>
              <p:cNvSpPr txBox="1"/>
              <p:nvPr/>
            </p:nvSpPr>
            <p:spPr>
              <a:xfrm>
                <a:off x="1905120" y="1828800"/>
                <a:ext cx="2055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7"/>
              <p:cNvSpPr txBox="1"/>
              <p:nvPr/>
            </p:nvSpPr>
            <p:spPr>
              <a:xfrm>
                <a:off x="3886200" y="1828800"/>
                <a:ext cx="17240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8"/>
              <p:cNvSpPr txBox="1"/>
              <p:nvPr/>
            </p:nvSpPr>
            <p:spPr>
              <a:xfrm>
                <a:off x="5562720" y="1828800"/>
                <a:ext cx="1160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0"/>
              <p:cNvSpPr txBox="1"/>
              <p:nvPr/>
            </p:nvSpPr>
            <p:spPr>
              <a:xfrm>
                <a:off x="228600" y="4343400"/>
                <a:ext cx="10652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21"/>
              <p:cNvSpPr txBox="1"/>
              <p:nvPr/>
            </p:nvSpPr>
            <p:spPr>
              <a:xfrm>
                <a:off x="1295280" y="4343400"/>
                <a:ext cx="14320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22"/>
              <p:cNvSpPr txBox="1"/>
              <p:nvPr/>
            </p:nvSpPr>
            <p:spPr>
              <a:xfrm>
                <a:off x="2666880" y="4648320"/>
                <a:ext cx="663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23"/>
              <p:cNvSpPr txBox="1"/>
              <p:nvPr/>
            </p:nvSpPr>
            <p:spPr>
              <a:xfrm>
                <a:off x="228600" y="5334120"/>
                <a:ext cx="10652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24"/>
              <p:cNvSpPr txBox="1"/>
              <p:nvPr/>
            </p:nvSpPr>
            <p:spPr>
              <a:xfrm>
                <a:off x="1295280" y="5410080"/>
                <a:ext cx="14302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25"/>
              <p:cNvSpPr txBox="1"/>
              <p:nvPr/>
            </p:nvSpPr>
            <p:spPr>
              <a:xfrm>
                <a:off x="2666880" y="5410080"/>
                <a:ext cx="10954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26"/>
              <p:cNvSpPr txBox="1"/>
              <p:nvPr/>
            </p:nvSpPr>
            <p:spPr>
              <a:xfrm>
                <a:off x="3733920" y="5410080"/>
                <a:ext cx="563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Rectangle 27"/>
          <p:cNvSpPr/>
          <p:nvPr/>
        </p:nvSpPr>
        <p:spPr>
          <a:xfrm>
            <a:off x="3886200" y="533520"/>
            <a:ext cx="83808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5562720" y="1143000"/>
            <a:ext cx="121896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5562720" y="1828800"/>
            <a:ext cx="121896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2971800" y="2514600"/>
            <a:ext cx="121932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2743200" y="3200400"/>
            <a:ext cx="76212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2666880" y="4648320"/>
            <a:ext cx="76212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3733920" y="5334120"/>
            <a:ext cx="60948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43828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3"/>
              <p:cNvSpPr txBox="1"/>
              <p:nvPr/>
            </p:nvSpPr>
            <p:spPr>
              <a:xfrm>
                <a:off x="228600" y="838080"/>
                <a:ext cx="23130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514600" y="838080"/>
                <a:ext cx="26319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5"/>
              <p:cNvSpPr txBox="1"/>
              <p:nvPr/>
            </p:nvSpPr>
            <p:spPr>
              <a:xfrm>
                <a:off x="5105520" y="838080"/>
                <a:ext cx="1331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152280" y="1828800"/>
                <a:ext cx="3181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7"/>
              <p:cNvSpPr txBox="1"/>
              <p:nvPr/>
            </p:nvSpPr>
            <p:spPr>
              <a:xfrm>
                <a:off x="3276720" y="1828800"/>
                <a:ext cx="3297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6553080" y="1828800"/>
                <a:ext cx="10699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9"/>
              <p:cNvSpPr txBox="1"/>
              <p:nvPr/>
            </p:nvSpPr>
            <p:spPr>
              <a:xfrm>
                <a:off x="152280" y="3048120"/>
                <a:ext cx="2519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2666880" y="3124080"/>
                <a:ext cx="3500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685800" y="3886200"/>
                <a:ext cx="2227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2"/>
              <p:cNvSpPr txBox="1"/>
              <p:nvPr/>
            </p:nvSpPr>
            <p:spPr>
              <a:xfrm>
                <a:off x="2895480" y="3886200"/>
                <a:ext cx="2227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3"/>
              <p:cNvSpPr txBox="1"/>
              <p:nvPr/>
            </p:nvSpPr>
            <p:spPr>
              <a:xfrm>
                <a:off x="5105520" y="3886200"/>
                <a:ext cx="11570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4"/>
              <p:cNvSpPr txBox="1"/>
              <p:nvPr/>
            </p:nvSpPr>
            <p:spPr>
              <a:xfrm>
                <a:off x="228600" y="5105520"/>
                <a:ext cx="156204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1752480" y="5181480"/>
                <a:ext cx="17384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8"/>
              <p:cNvSpPr txBox="1"/>
              <p:nvPr/>
            </p:nvSpPr>
            <p:spPr>
              <a:xfrm>
                <a:off x="3505320" y="5181480"/>
                <a:ext cx="13618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20"/>
              <p:cNvSpPr txBox="1"/>
              <p:nvPr/>
            </p:nvSpPr>
            <p:spPr>
              <a:xfrm>
                <a:off x="4876920" y="5181480"/>
                <a:ext cx="15350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21"/>
              <p:cNvSpPr txBox="1"/>
              <p:nvPr/>
            </p:nvSpPr>
            <p:spPr>
              <a:xfrm>
                <a:off x="6400800" y="5181480"/>
                <a:ext cx="14763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22"/>
              <p:cNvSpPr txBox="1"/>
              <p:nvPr/>
            </p:nvSpPr>
            <p:spPr>
              <a:xfrm>
                <a:off x="7848720" y="5181480"/>
                <a:ext cx="9824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Rectangle 23"/>
          <p:cNvSpPr/>
          <p:nvPr/>
        </p:nvSpPr>
        <p:spPr>
          <a:xfrm>
            <a:off x="5105520" y="838080"/>
            <a:ext cx="137160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6553080" y="1828800"/>
            <a:ext cx="106704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5029200" y="3886200"/>
            <a:ext cx="121932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7848720" y="5181480"/>
            <a:ext cx="990360" cy="1067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28:38Z</dcterms:created>
  <dc:creator>Chester Area School</dc:creator>
  <dc:description/>
  <dc:language>en-US</dc:language>
  <cp:lastModifiedBy>RomaK</cp:lastModifiedBy>
  <dcterms:modified xsi:type="dcterms:W3CDTF">2015-09-04T07:42:18Z</dcterms:modified>
  <cp:revision>30</cp:revision>
  <dc:subject/>
  <dc:title>PowerPoint Presentation</dc:title>
</cp:coreProperties>
</file>